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4F9-0B77-4A69-B7BB-D5EB8035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594-0342-47A6-99F3-D4ABA88A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588-1C11-43BA-8797-CD02EE1E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619-54FB-4479-97E8-9C4A847F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4600-9627-4EB0-8A05-D53E6BCD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827A-1163-4C0C-97A6-C24794E3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BE7E-4003-4BB5-AC11-E10C3846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9287-1751-4A05-9325-F786F201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13E6-8047-4BFF-802F-9A7D01D5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20A3-19EA-4174-A248-913967E1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0875-59A0-46E3-A5EF-4C99652E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C66-A0C8-4E69-806C-B6F833A8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077B-53E4-4BCB-9526-DAA9068A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1478-C108-4455-BC91-A0C208D1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FC8B-643C-4605-80D8-6430CA17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C1A9-04B8-43C8-8C50-3FDC2524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37BD-EC58-4A64-B05E-A7D0C8FB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E3B-C06A-4792-A55F-2364EB14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4F8-6DC0-47A4-AD25-9FE29344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259-61CF-40F4-83B0-7E064FBB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90F-A633-4D46-AA98-980F9525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A71-8711-429D-A1DA-07D43DB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6AE-13BC-4B02-81C5-6526A3C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1E2-510E-495D-9FA0-448B986B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4D75-A513-43E6-B95A-47C459609580}" type="datetime"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6025-A0DA-416A-9600-B83D573113DE}" type="slidenum">
              <a:rPr b="0" lang="hu-HU" sz="14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FCE0-19AE-4263-9BC8-8213EAEA931C}" type="datetime"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6E63-6330-47FA-8FA4-719848333998}" type="slidenum"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407360" cy="12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rolog </a:t>
            </a:r>
            <a:r>
              <a:rPr b="0" lang="hu-HU" sz="4400" spc="-1" strike="noStrike">
                <a:solidFill>
                  <a:srgbClr val="000099"/>
                </a:solidFill>
                <a:latin typeface="Arial"/>
              </a:rPr>
              <a:t>rendszerek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lang="hu-HU" sz="4400" spc="-1" strike="noStrike">
                <a:solidFill>
                  <a:srgbClr val="000099"/>
                </a:solidFill>
                <a:latin typeface="Arial"/>
              </a:rPr>
              <a:t>ülső nyelvi interfészei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14920" y="5445000"/>
            <a:ext cx="3529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iener P</a:t>
            </a: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é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bp131@hszk.bme.hu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élda: one_dif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one_dif(X, Y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X és Y két egész szám, különbségük abszolútértéke 1. Két bemenő argumentummal meghívva ellenőrző jellegű predikátum, egy bemenő argumentummal meghívva visszaadja a szomszédos egészeket, két változóval meghívva kivételt dob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:- foreign(one_dif(?integer, ?integer), [choice_size(1)])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C kód (eleje):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#include "gprolog.h"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Bool one_dif(FIOArg *x, FIOArg *y)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long *state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/* az állapot-mutató elkérése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state = Get_Choice_Buffer(long*)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Get_Choice_Counter() == 0)      /* első végrehajt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*state = -1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9B3-909F-4316-B777-30E4CE31B62B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7770600" cy="575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!x-&gt;is_var)             /* x ne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!y-&gt;is_var)         /* y ne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No_More_Choice();   /* nem kell választási pont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/* siker, ha a különbség 1, egyébként meghiúsul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return ((x-&gt;value.l - y-&gt;value.l) == -1 || 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(x-&gt;value.l - y-&gt;value.l) == 1)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/* y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y-&gt;unify = TRUE;    /* y kimenő argumentum lesz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y-&gt;value.l = x-&gt;value.l + *state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*state == 1)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No_More_Choice();   /* nincs több megold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(*state = 1)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return TRUE;        /* siker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                        /* x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!y-&gt;is_var)         /* y ne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                    /* mindkét argumentu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Pl_Err_Instantiation();     /* kivétel dob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return FALSE;   /* ide nem kerülhet a vezérlé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DD1-A11B-4C24-9058-E755450773BF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felé irányuló hívás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Begin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előkészíté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Call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név, aritás, argumentumok tömbje paraméterek. Végrehajtása az első megoldást is szolgáltatja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Next_Solution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 többi megoldáshoz. Visszatérési értéke: siker, meghiúsulás vagy kivétel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Get_Exception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 kivétel term elkéréséhez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End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befejezés a megadott módon. Lehet teljes lezárás, vágó vagy nyitva hagyás. Utóbbi nemdeterminisztikus függvény írásakor lehet haszno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lekérdezés-azonosító, minden parancs a legbelső megnyitott lekérdezésre vonatkozi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D2F-7D20-4C1A-992E-49B89F9EC498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 IV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7706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Beépített Prolog kivételek kiváltására vannak függvények: pl.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Err_Instantiation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Egyedi kivételek kiváltása a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Exec_Continuation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függvénnyel. Ez lecseréli az aktuális célsorozatot a megadott predikátumra (pl.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throw/1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 Ekkor a program a C-ben futó predikátumból kilép, és a végrehajtás a megadott predikátummal folytatódi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sak statikus szerkesztés: a Prolog kód és a C kód egyetlen futtatható állománnyá áll össz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38D-3CC4-4A7B-AD19-CEED623A6E07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z SWI Prolog C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(többnyire) Procedurális szemléletű: az eredmények egy már létrehozott, paraméterként átadott tárolóhelyre kerüln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„glue code”, mivel nincs automatikus típuskonverzió: a Prologból hívott C függvények minden paramétere term típusú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inden term a létrehozásakor változó lesz. Az adattal való feltöltés történhet egyesítéssel, illetve a tárolóhely átírásával is (pl.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_put_integer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Van külön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tring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típus, ami tartalmazhat 0 kódértékű karaktereket is (SICStus-ban ez karakterkódok listájával oldható meg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C3C-96B7-4B09-85BE-6779BC799152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z SWI Prolog C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Van nemdeterminisztikus C függvény (némileg hasonlóan a GNU interfészéhez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felé irányuló hívás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open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kérdezés megnyitása modul-azonosító, predikátum-azonosító és argumentumok alapján. Eredmény egy lekérdezés azonosító. Az argumentumoknak összefüggő memóriaterületen kell lenni. Létrehozás a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new_term_refs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 függvény segítségével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next_solution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első, vagy 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következő megoldás kérése (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siker esetén 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TRUE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, meghiúsulás és kivétel esetén 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FALSE visszatérési érték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cut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vágó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close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zárá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Exception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visszatérési értéke NULL, ha nem volt kivétel, egyébként a kivétel-term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Nincs egymásba ágyazott lekérdezés! (komoly hiányosság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991-A499-4343-98A8-1004A4609CFB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z SWI Prolog C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 oldalon tetszőleges Prolog kivétel kiváltható: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raise_exception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függvén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tatikus és dinamikus szerkesztésre is van lehetősé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A2A-BBD1-4284-B628-132C43EC2A94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ICStus Prolog C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770600" cy="4822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Glue code automatikusan generálhat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cedurális szemlélet: a függvények a visszatérési értékükben a sikerességet jelzik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, az eredmény a paraméterben átadott változóba kerü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rm létrehozáskor üres lista kezdőértékű (valószínűleg ez a legolcsóbb). „Feltöltésre” külön függvények, pl.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_put_integ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Összetett termek létrehozásakor az argumentumokat változó argumentumszámú függvénynek kell átadni. Lehet csupa változó argumentummal is (mint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functor/3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aját memóriakezelő függvények a rendszer által kezelt erőforrások hatékonyabb kihasználásához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0B7-0A93-4F34-A8C0-358FE5551DB2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ICStus Prolog C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nemdeterminisztikus C függvény (nem olyan nagy probléma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argumentumok lehetnek bemenő (érték szerinti átadás) illetve kimenő (cím szerinti) típusúak. Utóbbi esetben visszatérés után egyesítés lesz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stream-ek C-ből történő írása/olvasás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araktertömbből termet lehet csinálni, 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 term változóit (mélységi előfordulási sorrendben) is megkaphatjuk egy tömbb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agy egészek bájtok tömbjeként kezelhetők C oldal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4D1-708B-45C7-81A6-72ECC9DD2DF3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ICStus Prolog C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Prolog felé irányuló hívá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open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kérdezés megnyitása predikátum-azonosító és argumentumok alapján. Eredmény egy lekérdezés azonosító. Az argumentumok 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ezen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 változó argumentumszámú függvény paraméterei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next_solution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következő megoldás kérése (visszatérési érték: siker, meghiúsulás, kivétel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cut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vágó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close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zárá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get_exception_term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a kivétel-term elkérésér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Tetszőleges mélységben egymásba egymásba ágyazhatóak a lekérdezések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C oldalon tetszőleges Prolog kivétel kiváltható (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SP_raise_exception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Statikus és a dinamikus szerkesztés is van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Inicializációs és deinicializációs kódok: a C kód dinamikus betöltésekor és eltávolításakor futnak le (pl. file-ok megnyitását/lezárását végezhetik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82E-C6C7-490E-91DB-63E74D705D10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Van, amire a Prolog nem a legalkalmasabb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Hatékonysá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Más programnyelvek kiegészítő szolgáltatása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Kevés Prologhoz értő szakember (drágább fejlesztés és karbantartás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Nem „zöldmezős” fejlesztés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szeretnénk a meglévő kód minél nagyobb részét megtarta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ha ezek nem Prologban íródtak, az új programrészek hozzáillesztéséhez eszközök kellen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7B6-8FFE-4E7F-91D0-C2294CD04756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élda: m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_sum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Courier New"/>
              </a:rPr>
              <a:t>m_sum(M,S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: Az </a:t>
            </a:r>
            <a:r>
              <a:rPr b="0" sz="2400" spc="-1" strike="noStrike">
                <a:solidFill>
                  <a:srgbClr val="003300"/>
                </a:solidFill>
                <a:latin typeface="Courier New"/>
              </a:rPr>
              <a:t>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egész számokból álló mátrix elemeinek az összege </a:t>
            </a:r>
            <a:r>
              <a:rPr b="0" sz="2400" spc="-1" strike="noStrike">
                <a:solidFill>
                  <a:srgbClr val="003300"/>
                </a:solidFill>
                <a:latin typeface="Courier New"/>
              </a:rPr>
              <a:t>S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(msum, m_sum(+term, [-integer])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_resource(ex, [msum]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:- load_foreign_resource(ex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:- use_module(library(lists)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088-4E6C-40D5-9ED6-6F1EAF9EF44A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7770600" cy="575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/* ex.c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#include &lt;sicstus/sicstus.h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long msum(SP_term_ref l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1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2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red_ref mp = SP_predicate("member", 2, "lists"); 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S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P_qid q1, q2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long i, result = 0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t1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t2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q1 = SP_open_query(mp, t1, 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while (SP_next_solution(q1) == SP_SUCCESS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q2 = SP_open_query(mp, t2, t1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while (SP_next_solution(q2) == SP_SUCCESS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get_integer(t2, &amp;i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sult += i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close_query(q2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close_query(q1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0F2-EB6A-4455-B3B5-A1031984B759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élda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st_filter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list_filter(L,I)</a:t>
            </a: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: 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L</a:t>
            </a: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 lista egész típusú elemeinek listáj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I</a:t>
            </a: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(list_filter, list_filter(+term, [-term])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_resource(ex2, [list_filter]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:- load_foreign_resource(ex2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C0D-E5B2-4774-A342-4265DFBB8A6C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000" y="475920"/>
            <a:ext cx="7770600" cy="576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/* ex2.c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/* A list egész elemeiből álló listát adja vissza.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list_filter(SP_term_ref list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result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actual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head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ail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emp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actua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term(result, actua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while (SP_is_list(list)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get_list(list, head, list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f (SP_is_integer(head)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tai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cons_list(temp, head, tai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unify(actual, temp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term(actual, tai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unify(actual, SP_new_term_ref()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D62-6AC9-4D34-8CA9-7050F84B274F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SICStus Prolog Visual Basic i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sak Prolog felé irányuló hívás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megoldások elkérése hasonló a C interfészhez: megnyitás, megoldások egyenként, lezárá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term típus a Basic oldal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ztringként kell megadni a lekérdezés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egyes változók értékét a nevük alapján lehet elkérni egész, illetve sztring (az összes többi típus esetén) alakba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kivételeket szintén sztring alakban lehet elkér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44E-2969-4BA3-AA79-CFEC48DCDC47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C interfészre épül, burkolóosztályok a típusokhoz és függvényekhez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termekhez és atom-azonosítókhoz külön osztály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ivételkezelés feljettebb: Prolog kivételek C++ kivételekként jelentkeznek a másik oldal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Öröklött megszorítások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itt sincsenek egymásba ágyazott lekérdezése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csak term típusú paraméter megengedet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em lehet átírni a létrehozott termet (OO szemlélet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(term) és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v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(termek tömbje) osztály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3BE-744C-4D23-9E13-4E49ABE2BDCB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on definiálva vannak a különböző típusokat (pl.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doubl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char*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fogadó konstruktorok, valamint az objektumot ugyanezekre a típusokra alakító konverziós operátoro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Összehasonlító operátorok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és int típusokka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Értékadó operátor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mellett több C típusra is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long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doubl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char*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 Egyesítésnek felel meg az adott (esetleges konverziók utáni) termme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Indexelő operátor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[]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: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arg/3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Áttekinthető kó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F91-39BF-48CD-B5F5-F7F53DA8CB56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25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REDICAT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makró a C++-ban definiált predikátumok-hoz. Paraméterei a predikátumnév és az aritás. A függvény törzsében az argumentumokra az A1, A2 stb. makrókkal hivatkozhatunk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ICATE(add,3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return A3 = (long)A1 + (long)A2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lekérdezés osztály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Query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, használata szinte teljesen megegyezik a C interfészé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enek nemdeterminisztikus C++ predikátumok, bár nem lenne nehéz támogatni (a fejlesztők szerint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688-4218-44AC-8CF8-FE51CECD5A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Objektumok átadása mutatókkal: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void*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konverziós operátor kell az adott osztályon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ICATE(make_my_object,1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MyClass* myobj = new MyClass(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return A1 = (void*)myobj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ICATE(free_my_object,1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MyClass* myobj = (void*)A1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delete myobj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sak statikus szerkesztés, kell a C++ linker (az SWI betöltő helyett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 IV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460-83B3-430A-934B-EE81D39C9D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25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Csak Java-ból Prolog felé irányuló hívást támogat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Nincsenek egymásba ágyazott lekérdezések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bsztrakt </a:t>
            </a:r>
            <a:r>
              <a:rPr b="0" sz="23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 osztály, a leszármazottak az egyes Prolog típusoknak megfelelő osztályok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Lekérdezéshez a </a:t>
            </a:r>
            <a:r>
              <a:rPr b="0" sz="2300" spc="-1" strike="noStrike">
                <a:solidFill>
                  <a:srgbClr val="003300"/>
                </a:solidFill>
                <a:latin typeface="Courier New"/>
              </a:rPr>
              <a:t>Query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 osztályt kell példányosítani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Ez az osztály megvalósítja a Java java.util.Enumeration interfészét, megoldások elkérése ennek segítségével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hasMoreElements()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: van-e még megoldás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nextElement()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: elkérjük a megoldást. Az eredmény egy java.util.Hashtable objektum, aminek kulcsai a lekérdezés változói (változó objektumok), értékei pedig az egyes változók értékei (</a:t>
            </a:r>
            <a:r>
              <a:rPr b="0" sz="23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 objektumok) a végrehajtás után.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Java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F3B-22C8-45E3-8395-726B6CE94D3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99"/>
                </a:solidFill>
                <a:latin typeface="Arial"/>
              </a:rPr>
              <a:t>Különböző nyelvű programok együttműködése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770600" cy="468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Nincs olyan nyelv, ami – akár egy rendszeren belül is – minden feladatra a legalkalmasabb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Igények szerteágazóak, rengeteg különböző típusú funkció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Nem megfelelő nyelv választása egy adott feladathoz növeli  a fejlesztési­ és karbantartási költségeket, és mindemellett a végeredmény sem fog a kívánt hatásfokkal működni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Érdemes minden részfeladathoz vagy modulhoz külön kiválasztani a legalkalmasabb nyelve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Ezeknek a programrészeknek legtöbbször valamilyen szinten együtt kell működniük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Ehhez szükség van olyan interfészekre, ami a különböző programnyelven íródott modulok között biztosítanak hívási felülete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Elterjedt Prolog rendszerek tartalmaznak eszközöket az összekapcsoláshoz (elengedhetetlen a sikerhez)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E25-991D-425C-AA4F-A4761F8B41B2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élda: kiírja 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[1,2,3]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lista elemei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Variable X = new Variable(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List L = new List(1,2,3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Term args[] = {X, L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Query q = new Query(new Atom("member"), args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while (q.hasMoreElements()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Hashtable binding = (Hashtable) q.nextElement(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Term t = (Term) binding.get(X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ystem.out.println(t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ényelmes konstruktorok 10 argumentumi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Prolog oldalon keletkezett kivételek Java kivételekké alakulnak (mint a C++ interfésznél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500" spc="-1" strike="noStrike">
                <a:solidFill>
                  <a:srgbClr val="000099"/>
                </a:solidFill>
                <a:latin typeface="Arial"/>
              </a:rPr>
              <a:t>Az SWI Prolog Java interfésze II.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86C-923A-4105-BE61-78606D5435F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és Java kód egy processzb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étirányú interfész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Egymásba ágyazott lekérdezés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(szinte) Tetszőleges Java metódus meghívhat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metódus paramétereinek típusa a hívást végző predikátumban (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jasper_call/4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adható meg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jasper_call(JVM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method('java/lang/Integer', 'toString', [static]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nt_to_chars(+integer, [-chars]),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nt_to_chars(2004, N)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ICStus Prolog Jasper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8D1-7196-4F55-ADD1-5D60225D768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 a C interfés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_term_ref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burkolóosztály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Jasper át tudja írni a term-objektum belső azonosítójá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enek a Prolog típusoknak megfelelő osztályok. Csak 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 van (nem OO szemléletű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Átmenet a procedurális és a funkcionális megközelítés között (pl. procedurális: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getArg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getList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araktertömbbel adott term termmé történő átalakításakor a változónév-változó párokat is megkaphatjuk egy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java.util.Map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bjektumba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em támogatja a nagy egészek átadását (a Jav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BigInteg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a kínálja magát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 SICStus Prolog Jasper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2E6-F8EA-4EF8-AB04-730BA40945A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3300"/>
                </a:solidFill>
                <a:latin typeface="Times New Roman"/>
              </a:rPr>
              <a:t>Prolog felé irányuló hívá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tszőleges mélységben egymásba ágyazható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egnyitás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ICStus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bjektum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openQuery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metódusával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sztringként: </a:t>
            </a:r>
            <a:r>
              <a:rPr b="0" sz="1900" spc="-1" strike="noStrike">
                <a:solidFill>
                  <a:srgbClr val="003300"/>
                </a:solidFill>
                <a:latin typeface="Courier New"/>
              </a:rPr>
              <a:t>java.util.Map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-be kapjuk a megoldásokat, változónév kulcs, term-objektum érték párok formájáb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strukturáltan: modulnév, predikátumnév, argumentumok tömbj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egy SPQuery objektumot ad vissza. Ennek metódusai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next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első-, vagy 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következő megoldá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cut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vágó (az eredmények megmaradnak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close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visszaáll a megnyitás előtti verem-állapo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 SICStus Prolog Jasper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B29-3193-4B38-98D4-D641EDB2041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Java objektumok kezelés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létrehozása Prologból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két oldal közötti átadás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Java oldalon tárolódnak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zonosítóval lehet hivatkozni rájuk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példány-metódus meghívása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Több szálból indított lekérdezés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 Prolognak egy verme van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z előbb indított lekérdezés lezárhatja a később indítottat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Kivételek átalakulnak a másik oldal kivételévé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Elvileg tökéletes megoldás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Java kivétel Prolog oldalon a kivétel objektum azonosítója lesz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 kivételről információt (pl. szöveg) csak visszahívással szerezhetünk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Sok esetben ez már nem sikerül, mert a Java környezet összeomlott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 SICStus Prolog Jasper interfésze IV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C48-C46B-41D8-B0A0-B6217617EEF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két oldal külön processzben fut, socket-en keresztül kommunkikálv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Futhat a két oldal külön gépen (pl. Java oldal egy böngészőben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egadható, hogy milyen kliens számítógépek (IP cím vagy név alapján) használhatják a Prolog kiszolgáló szolgáltatásait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Jelenleg csak a Prolog felé irányuló hívásokat támog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visszalépés, csak az első megoldást lehet elkér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Java oldali termek Java oldalon tárolódnak. Az absztrakt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 leszármazottai az egyes Prolog típusoknak megfelelő osztályok (OO szemlélet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SICStus </a:t>
            </a: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rologBeans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D5F-290F-479C-8760-DDA6ECDBECA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hívást sztringként lehet megadni, az argumentumokat egy változónév-érték párokat tartalmazó leképezés objektum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Bindings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segítségével lehet közölni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egyes leképezések megadásához különböző típusok is használhatók: egész, lebegőpontos, sztring (karakterkódok listája illetve atom) és általános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bjektum i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megoldás a leképezés osztály egy leszármazott osztályának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QueryAnsw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segítségével nyerhető ki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SICStus </a:t>
            </a: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rologBeans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AE8-4363-45EA-A15B-26F49A868B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main:-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gister_query(evaluate(C,P), my_predicate(C,P)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tart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my_predicate(Chars, P):-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ad_from_chars(Chars, X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P is X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Java kód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Bindings bindings = new Bindings().bind("E", "2+3."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QueryAnswer answer =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ession.executeQuery("evaluate(E,R)", bindings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Term result = answer.getValue("R"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f (result != null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ystem.out.println(result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élda: evaluate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A3B-897D-4A14-A224-E82C4982AD7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z egész rendszer Java nyelven íródot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GNU Prolog for Jav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Moks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PrologCafé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stb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 Prolog motor Java osztályok segítségével ágyazható be a Java alkalmazásb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Jól integrálható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Nagymértékben OO szemléletű, mivel a fejlesztéskor nem kellett semmihez alkalmazkodni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 „nagy” Prolog rendszerekhez képest kevés kiegészítő modul illetve könyvtár (nagy hátrány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Java alapú Prolog rendszere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2A7-F88E-4F97-8292-F82F445411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aját készítésű Java interfész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két oldal külön processzben fut, kapcsolat socket-en keresztü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Jasper-rel próbál kompatibilis len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Oda-vissza irányú hívások, tetszőleges mélységben egymásba ágyazv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tszőleges mélységben egymásba ágyazható lekérdezés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agy egészek átvitele mindkét irányban (Jav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BigInteg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segítségével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ofia rendsz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B19-2FBA-4ECB-B075-6C6ACC33AA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Prolog külső nyelvi kapcsolata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Elterjedt imperatív nyelvek és a Prolog közti intefészekről lesz sz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z egyik nyelvből meg tudjuk hívni a másik oldal egy eljárását/függvényét/predikátumá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datokat kell átadni a két oldal között (pl. a C felé)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Term típust kap a függvény: meg lehet kérdezni, hogy egész-e, el lehet kérni az értékét, stb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Előre specifikált típust kap (pl. int): a konverzióról, ellenőrzésről 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 „glue code” gondoskod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BFD-DD1A-4BDF-820A-294EC573DC47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Kivételek oda-vissza átalalkulnak a másik oldal kivételévé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Java kivételek esetén a kivétel-objektum azonosítója mellett a kivétel összes jellemzője is átmegy: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62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 kivétel osztályának neve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62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szöveges reprezentációja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62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 teljes stacktrace Prolog lista alakban (osztálynév, metódusnév stb.)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Egy gépen a hívások ideje egy nagyságrenddel lassabb a Jasper-nél (a taszkváltások miatt)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 hívások adminisztrációs költsége többnyire elhanyagolható a futási idő mellett, emiatt a sebességbeli hátrány sem lesz számottevő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ofia rendszer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F0C-5B61-491D-9BF9-AF006EB677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29970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3300"/>
                </a:solidFill>
                <a:latin typeface="Times New Roman"/>
              </a:rPr>
              <a:t>Köszönöm a figyelmet!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B23-0B77-42BA-8250-DDB719E578D1}" type="slidenum">
              <a:t>41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80802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gy interfész további jellemző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46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datok leképezése: „glue code”-dal kell-e foglalkoz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Szemlélet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procedurális: Az adott (pl. C) függvény az argumentumként kapott változóban szolgáltatja az eredményt. A visszatérési értékben lehet a sikerességet/hibát jelezn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funkcionális: A függvény a visszatérési értékében szolgáltatja az eredményt. Hibát (amennyiben nincsenek kivételek az adott nyelvben) lehet valamilyen érvénytelen értékkel jelezn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Termek létrehozása alulról felfelé, vagy felülről lefelé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Hívási irány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Kivételkezelé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Fordítás, szerkesztés, futtatá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568-89EA-426F-9010-16BC3A344DE6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Kényelmi szolgáltatáso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emdeterminizmus az imperatív oldal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egoldható egy burkoló-predikátum segítségé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% pred(Param, St0, St1): C-ben van megvalósítv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nd_pred(Param):-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nd_pred(Param, initial).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nd_pred(Param, St0):-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(Param, St0, St1),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( S1 == completed -&gt; true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nincs több megoldá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; true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még újrahívható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; nd_pred(Param, St1)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visszalépéskor az új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).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állapottal hívjuk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29D-40B3-4023-A3C9-A172D7509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C interfésze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39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Szinte minden Prolog rendszerhez létezi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GNU, SWI, SICStus interfészeiről lesz sz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Közös képességek/lehetőségek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két irányú hívások lehetősége, korlátlan mélységben egymásba ágyazva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Prolog felé irányuló (nemdeterminisztikus) hívások esetén az eredmények egyesével való visszaadása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C-ből Prolog kivétel dobása, Prologban keletkezett kivétel fogadása C oldalon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Termek kezelése: azonosítóval (egész szám), pl. egy belső - Prolog verembe mutató mutatókat tartalmazó – tömb indexe (SICStus)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3300"/>
                </a:solidFill>
                <a:latin typeface="Times New Roman"/>
              </a:rPr>
              <a:t>Atomok kezelése: atomtáblába mutató tömbindexszel (hatékonyság). Karaktertömbként elkérve az atomot át lehet írni az atomtáblát (!), mivel nem készít másolatot a rendszer. Erre vigyázni kell.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1FA-9A9F-4696-B07E-EFC55740059C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802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39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Funkcionális megközelítés: 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 függvények 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visszatérési érték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többnyire maga az eredmén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„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Glue code” automatikusan generálhat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rm létrehozásakor a típust meg kell adni. Minden típushoz külön létrehozó függvény tartozi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Lehet nemdeterminisztikus predikátumot C-ben ír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Fordítási időben meg kell adni az állapot tárolásához szükséges hely nagyságát (gépi szó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Get_Choice_Buffer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z állapotot tároló címet adja vissz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Get_Choice_Counter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 visszalépések eddigi szám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No_More_Choice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választási pont törlés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DDA-99AB-4FFA-A40E-E3443AF97B11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04000" cy="475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Megadható a paraméterek módja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bemenő: érték szerinti paraméterátadás (pl. </a:t>
            </a:r>
            <a:r>
              <a:rPr b="0" lang="hu-HU" sz="20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). A behelyettesítettséget, a típust és a tartományt (pl. pozitív egész) a rendszer ellenőrzi, és adott esetben kivételt dob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kimenő: cím szerinti paraméterátadás (pl. </a:t>
            </a:r>
            <a:r>
              <a:rPr b="0" lang="hu-HU" sz="2000" spc="-1" strike="noStrike">
                <a:solidFill>
                  <a:srgbClr val="003300"/>
                </a:solidFill>
                <a:latin typeface="Courier New"/>
              </a:rPr>
              <a:t>int*</a:t>
            </a: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mindkettő egyszerre (kényelmi szolgáltatás): egy előre definiált struktúra címét kapja meg a függvény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typedef struc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Bool is_var;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400" spc="-1" strike="noStrike">
                <a:solidFill>
                  <a:srgbClr val="003300"/>
                </a:solidFill>
                <a:latin typeface="Courier New"/>
              </a:rPr>
              <a:t>/* híváskor változó volt-e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Bool unify;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400" spc="-1" strike="noStrike">
                <a:solidFill>
                  <a:srgbClr val="003300"/>
                </a:solidFill>
                <a:latin typeface="Courier New"/>
              </a:rPr>
              <a:t>/* visszatéréskor egyesítsen-e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union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/* </a:t>
            </a:r>
            <a:r>
              <a:rPr b="0" lang="hu-HU" sz="1400" spc="-1" strike="noStrike">
                <a:solidFill>
                  <a:srgbClr val="003300"/>
                </a:solidFill>
                <a:latin typeface="Courier New"/>
              </a:rPr>
              <a:t>a típus a specifikációból derül ki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long l;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400" spc="-1" strike="noStrike">
                <a:solidFill>
                  <a:srgbClr val="003300"/>
                </a:solidFill>
                <a:latin typeface="Courier New"/>
              </a:rPr>
              <a:t>/* egész v. term (azonosító)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char *s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double d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 value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 FIOArg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543-B9BB-47FD-A694-55C31D1E7F4A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ener Péter</cp:lastModifiedBy>
  <dcterms:modified xsi:type="dcterms:W3CDTF">2004-10-19T00:26:35Z</dcterms:modified>
  <cp:revision>131</cp:revision>
  <dc:subject/>
  <dc:title>PowerPoint bemutató</dc:title>
</cp:coreProperties>
</file>